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4.wmf" ContentType="image/x-wmf"/>
  <Override PartName="/ppt/media/image5.jpeg" ContentType="image/jpeg"/>
  <Override PartName="/ppt/media/image26.jpeg" ContentType="image/jpeg"/>
  <Override PartName="/ppt/media/image4.png" ContentType="image/png"/>
  <Override PartName="/ppt/media/image27.gif" ContentType="image/gif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F840-A7F1-4415-9889-5E1AC56CBB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DA79-6475-4D45-97FF-9F37523766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571-259E-45E1-9D14-E82F379B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842-149E-4979-80FE-C2F40677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EFD7-CFF9-4AEF-8764-27398D08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AE8-A471-497E-BA39-E1A3736D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00B-3F66-49E0-832A-0DD82463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09D-F690-4F4A-A48C-AD94738B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5F2E-4D35-4538-B41B-1881DBF8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B30-0275-4F46-9895-0020B5CB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2FF-5EB3-4FCE-9267-17E838E3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8FE-62D5-4588-A28E-0F55F376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186-3588-49D9-BFE1-50C284F6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DE3-20E3-4238-B156-0D5EE7B1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12" descr="Безымянный4.png"/>
          <p:cNvPicPr/>
          <p:nvPr/>
        </p:nvPicPr>
        <p:blipFill>
          <a:blip r:embed="rId2"/>
          <a:stretch/>
        </p:blipFill>
        <p:spPr>
          <a:xfrm>
            <a:off x="0" y="5232240"/>
            <a:ext cx="1152360" cy="162576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11" descr="8cd627d3af7a.jpg"/>
          <p:cNvPicPr/>
          <p:nvPr/>
        </p:nvPicPr>
        <p:blipFill>
          <a:blip r:embed="rId3"/>
          <a:stretch/>
        </p:blipFill>
        <p:spPr>
          <a:xfrm>
            <a:off x="7832880" y="5413320"/>
            <a:ext cx="1311120" cy="14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c8c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6DA1-A4D4-4795-8F30-D8606229EF60}" type="datetime">
              <a:rPr b="0" lang="ru-RU" sz="1200" spc="-1" strike="noStrike">
                <a:solidFill>
                  <a:srgbClr val="8c8c8c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c8c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FDBC-21D7-47A7-AD82-9DC853231C99}" type="slidenum">
              <a:rPr b="0" lang="ru-RU" sz="1200" spc="-1" strike="noStrike">
                <a:solidFill>
                  <a:srgbClr val="8c8c8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" name="Рисунок 7" descr="5ebc5b5c72d7.png"/>
          <p:cNvPicPr/>
          <p:nvPr/>
        </p:nvPicPr>
        <p:blipFill>
          <a:blip r:embed="rId4"/>
          <a:stretch/>
        </p:blipFill>
        <p:spPr>
          <a:xfrm>
            <a:off x="0" y="0"/>
            <a:ext cx="4211640" cy="86508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8" descr="5ebc5b5c72d7.png"/>
          <p:cNvPicPr/>
          <p:nvPr/>
        </p:nvPicPr>
        <p:blipFill>
          <a:blip r:embed="rId5"/>
          <a:stretch/>
        </p:blipFill>
        <p:spPr>
          <a:xfrm>
            <a:off x="4140360" y="0"/>
            <a:ext cx="4211640" cy="86508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9" descr="5ebc5b5c72d7.png"/>
          <p:cNvPicPr/>
          <p:nvPr/>
        </p:nvPicPr>
        <p:blipFill>
          <a:blip r:embed="rId6"/>
          <a:srcRect l="0" t="0" r="80386" b="0"/>
          <a:stretch/>
        </p:blipFill>
        <p:spPr>
          <a:xfrm>
            <a:off x="8317080" y="0"/>
            <a:ext cx="82692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wmf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1214280"/>
            <a:ext cx="81360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Georgia"/>
              </a:rPr>
              <a:t>Системно-деятельностный подход в обучении как фактор развтия личности младшего школьника на разных этапах современного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БлокТекста1"/>
          <p:cNvSpPr/>
          <p:nvPr/>
        </p:nvSpPr>
        <p:spPr>
          <a:xfrm>
            <a:off x="860400" y="2368440"/>
            <a:ext cx="7607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БлокТекста2"/>
          <p:cNvSpPr/>
          <p:nvPr/>
        </p:nvSpPr>
        <p:spPr>
          <a:xfrm>
            <a:off x="1004760" y="3659040"/>
            <a:ext cx="66009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Картинка1" descr=""/>
          <p:cNvPicPr/>
          <p:nvPr/>
        </p:nvPicPr>
        <p:blipFill>
          <a:blip r:embed="rId1"/>
          <a:stretch/>
        </p:blipFill>
        <p:spPr>
          <a:xfrm>
            <a:off x="5943600" y="3560760"/>
            <a:ext cx="3200400" cy="3297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1127160" y="5365800"/>
            <a:ext cx="459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МКОУ «Ситниковская СОШ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Новикова С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БлокТекста1"/>
          <p:cNvSpPr/>
          <p:nvPr/>
        </p:nvSpPr>
        <p:spPr>
          <a:xfrm>
            <a:off x="287280" y="1136520"/>
            <a:ext cx="8747280" cy="44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7480" y="713880"/>
            <a:ext cx="775008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Реализация плана</a:t>
            </a: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28440" y="1714680"/>
            <a:ext cx="7715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 действия по плану урока или образцу: организация поисковой ситуации, использование приема "от простого к сложному", авторские задания, составляем задание для одноклассника, самостоятельная работа, групповая работа, работа в парах  и микрогруппах, консультативная помощь, решение затрудн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Картинка3" descr=""/>
          <p:cNvPicPr/>
          <p:nvPr/>
        </p:nvPicPr>
        <p:blipFill>
          <a:blip r:embed="rId1"/>
          <a:stretch/>
        </p:blipFill>
        <p:spPr>
          <a:xfrm>
            <a:off x="7572240" y="4799160"/>
            <a:ext cx="157176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БлокТекста1"/>
          <p:cNvSpPr/>
          <p:nvPr/>
        </p:nvSpPr>
        <p:spPr>
          <a:xfrm>
            <a:off x="142920" y="933480"/>
            <a:ext cx="889776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7480" y="642960"/>
            <a:ext cx="7750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Контро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99680" y="2143080"/>
            <a:ext cx="828684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амоконтро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заимоконтро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дагогический контро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БлокТекста1"/>
          <p:cNvSpPr/>
          <p:nvPr/>
        </p:nvSpPr>
        <p:spPr>
          <a:xfrm>
            <a:off x="71280" y="1096920"/>
            <a:ext cx="89694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7480" y="785880"/>
            <a:ext cx="7750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Оцен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7120" y="1642680"/>
            <a:ext cx="842976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 самооцен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шаг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Что нужно было сделать в этом задании? Какую цель ставил? Что нужно было получить в результа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 шаг.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далось ли получить результат? Найдено ли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шение? Отв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 шаг. 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равился полностью правильно или 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значительной ошибкой (какой, в че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8c8c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 шаг.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равился полностью самостоятельно или с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большой помощью (кто помог, в че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0200" y="785520"/>
            <a:ext cx="82519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ценка своих  ум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14240" y="1857240"/>
          <a:ext cx="7929720" cy="3357720"/>
        </p:xfrm>
        <a:graphic>
          <a:graphicData uri="http://schemas.openxmlformats.org/drawingml/2006/table">
            <a:tbl>
              <a:tblPr/>
              <a:tblGrid>
                <a:gridCol w="559080"/>
                <a:gridCol w="3290760"/>
                <a:gridCol w="2098800"/>
                <a:gridCol w="1981080"/>
              </a:tblGrid>
              <a:tr h="67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и 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ю числа от 1 до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ю записывать цифры от 1 до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ю складывать в пределах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ю вычитать в пределах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0200" y="928800"/>
            <a:ext cx="82519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ценка своих  ум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28760" y="2071800"/>
          <a:ext cx="8072280" cy="3144600"/>
        </p:xfrm>
        <a:graphic>
          <a:graphicData uri="http://schemas.openxmlformats.org/drawingml/2006/table">
            <a:tbl>
              <a:tblPr/>
              <a:tblGrid>
                <a:gridCol w="569880"/>
                <a:gridCol w="3230640"/>
                <a:gridCol w="1315800"/>
                <a:gridCol w="1430280"/>
                <a:gridCol w="1525680"/>
              </a:tblGrid>
              <a:tr h="89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успеш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ю/зна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каю ошиб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наю/не уме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ю находить глаголы в текс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ю правило правописания глаголов с частицей 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ю правильно писать частицу не с глагол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0200" y="785520"/>
            <a:ext cx="825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я точного пониман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го слова в текс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00040" y="2143080"/>
          <a:ext cx="8143920" cy="3314880"/>
        </p:xfrm>
        <a:graphic>
          <a:graphicData uri="http://schemas.openxmlformats.org/drawingml/2006/table">
            <a:tbl>
              <a:tblPr/>
              <a:tblGrid>
                <a:gridCol w="1177920"/>
                <a:gridCol w="1536840"/>
                <a:gridCol w="1357200"/>
                <a:gridCol w="1357200"/>
                <a:gridCol w="1357560"/>
                <a:gridCol w="135720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знач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а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+2=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·2=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4+5=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+6=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+4=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0200" y="287280"/>
            <a:ext cx="8251920" cy="17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сумму двух четных однозначных чисел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00040" y="2357280"/>
          <a:ext cx="8072640" cy="2786400"/>
        </p:xfrm>
        <a:graphic>
          <a:graphicData uri="http://schemas.openxmlformats.org/drawingml/2006/table">
            <a:tbl>
              <a:tblPr/>
              <a:tblGrid>
                <a:gridCol w="2333520"/>
                <a:gridCol w="3110040"/>
                <a:gridCol w="2629080"/>
              </a:tblGrid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·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4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+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+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БлокТекста1"/>
          <p:cNvSpPr/>
          <p:nvPr/>
        </p:nvSpPr>
        <p:spPr>
          <a:xfrm>
            <a:off x="216000" y="860400"/>
            <a:ext cx="874692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БлокТекста2"/>
          <p:cNvSpPr/>
          <p:nvPr/>
        </p:nvSpPr>
        <p:spPr>
          <a:xfrm>
            <a:off x="216000" y="3803760"/>
            <a:ext cx="87534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БлокТекста3"/>
          <p:cNvSpPr/>
          <p:nvPr/>
        </p:nvSpPr>
        <p:spPr>
          <a:xfrm>
            <a:off x="216000" y="4664160"/>
            <a:ext cx="8746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БлокТекста4"/>
          <p:cNvSpPr/>
          <p:nvPr/>
        </p:nvSpPr>
        <p:spPr>
          <a:xfrm>
            <a:off x="216000" y="5238720"/>
            <a:ext cx="87534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3880" y="499680"/>
            <a:ext cx="7750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Рефлексия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56840" y="1428480"/>
            <a:ext cx="63867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Calibri"/>
                <a:ea typeface="Droid Sans Fallback"/>
              </a:rPr>
              <a:t>Виды рефлек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643040" y="2071800"/>
            <a:ext cx="59533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БлокТекста1"/>
          <p:cNvSpPr/>
          <p:nvPr/>
        </p:nvSpPr>
        <p:spPr>
          <a:xfrm>
            <a:off x="287280" y="789120"/>
            <a:ext cx="86104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БлокТекста2"/>
          <p:cNvSpPr/>
          <p:nvPr/>
        </p:nvSpPr>
        <p:spPr>
          <a:xfrm>
            <a:off x="287280" y="2152800"/>
            <a:ext cx="86104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БлокТекста3"/>
          <p:cNvSpPr/>
          <p:nvPr/>
        </p:nvSpPr>
        <p:spPr>
          <a:xfrm>
            <a:off x="287280" y="3157560"/>
            <a:ext cx="861048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7750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Рефлексия настроения и эмоционального состоя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6" descr="C:\Documents and Settings\Admin\Рабочий стол\бабочки\s8.png"/>
          <p:cNvPicPr/>
          <p:nvPr/>
        </p:nvPicPr>
        <p:blipFill>
          <a:blip r:embed="rId1"/>
          <a:stretch/>
        </p:blipFill>
        <p:spPr>
          <a:xfrm>
            <a:off x="3000240" y="2000160"/>
            <a:ext cx="2952720" cy="25210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11" name="Рисунок 7" descr="C:\Documents and Settings\Admin\Рабочий стол\бабочки\a_082316d7.jpg"/>
          <p:cNvPicPr/>
          <p:nvPr/>
        </p:nvPicPr>
        <p:blipFill>
          <a:blip r:embed="rId2"/>
          <a:stretch/>
        </p:blipFill>
        <p:spPr>
          <a:xfrm>
            <a:off x="0" y="4572000"/>
            <a:ext cx="237636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C:\Documents and Settings\Admin\Рабочий стол\бабочки\0_5044c_d3ef4000_XL.gif"/>
          <p:cNvPicPr/>
          <p:nvPr/>
        </p:nvPicPr>
        <p:blipFill>
          <a:blip r:embed="rId3"/>
          <a:stretch/>
        </p:blipFill>
        <p:spPr>
          <a:xfrm>
            <a:off x="0" y="2000160"/>
            <a:ext cx="2627280" cy="2205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image5"/>
          <p:cNvPicPr/>
          <p:nvPr/>
        </p:nvPicPr>
        <p:blipFill>
          <a:blip r:embed="rId4"/>
          <a:stretch/>
        </p:blipFill>
        <p:spPr>
          <a:xfrm>
            <a:off x="3214800" y="4714920"/>
            <a:ext cx="2447640" cy="18320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0" descr=""/>
          <p:cNvPicPr/>
          <p:nvPr/>
        </p:nvPicPr>
        <p:blipFill>
          <a:blip r:embed="rId5"/>
          <a:srcRect l="17310" t="35380" r="6414" b="0"/>
          <a:stretch/>
        </p:blipFill>
        <p:spPr>
          <a:xfrm>
            <a:off x="6335640" y="2357280"/>
            <a:ext cx="2808360" cy="1872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1" descr="C:\Documents and Settings\Admin\Рабочий стол\бабочки\2.jpg"/>
          <p:cNvPicPr/>
          <p:nvPr/>
        </p:nvPicPr>
        <p:blipFill>
          <a:blip r:embed="rId6"/>
          <a:stretch/>
        </p:blipFill>
        <p:spPr>
          <a:xfrm>
            <a:off x="6411960" y="4572000"/>
            <a:ext cx="2732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0200" y="856800"/>
            <a:ext cx="82519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Светофор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0" y="1785960"/>
            <a:ext cx="3929040" cy="50720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5"/>
          <p:cNvSpPr/>
          <p:nvPr/>
        </p:nvSpPr>
        <p:spPr>
          <a:xfrm>
            <a:off x="4022280" y="2571840"/>
            <a:ext cx="411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сем не понят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4012200" y="4000680"/>
            <a:ext cx="52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до повторить ещё ра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7"/>
          <p:cNvSpPr/>
          <p:nvPr/>
        </p:nvSpPr>
        <p:spPr>
          <a:xfrm>
            <a:off x="4231440" y="5357880"/>
            <a:ext cx="41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ё легко и прост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БлокТекста1"/>
          <p:cNvSpPr/>
          <p:nvPr/>
        </p:nvSpPr>
        <p:spPr>
          <a:xfrm>
            <a:off x="287280" y="860400"/>
            <a:ext cx="8610480" cy="58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Users\User\Desktop\0f21c0a96e0361b0ae8de29b97408839.jpe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0200" y="999720"/>
            <a:ext cx="8251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Солнышко"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0200" y="1643040"/>
            <a:ext cx="82519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ске прикреплён круг от солнышка, детям раздаются лучики жёлтого и зеленого  цветов. Лучики нужно прикрепить к солнышку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ого цвета – мне очень понравилось занятие, получили много интересной информаци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го цвета  – занятие не интересное, не было никакой полезной информ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1" descr="http://kladraz.ru/images/photos/medium/article1062.jpg"/>
          <p:cNvPicPr/>
          <p:nvPr/>
        </p:nvPicPr>
        <p:blipFill>
          <a:blip r:embed="rId1"/>
          <a:stretch/>
        </p:blipFill>
        <p:spPr>
          <a:xfrm>
            <a:off x="0" y="4813200"/>
            <a:ext cx="20448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0200" y="999720"/>
            <a:ext cx="8251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Пять пальцев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rcRect l="-124" t="16273" r="0" b="0"/>
          <a:stretch/>
        </p:blipFill>
        <p:spPr>
          <a:xfrm>
            <a:off x="28440" y="1785960"/>
            <a:ext cx="9115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0200" y="856800"/>
            <a:ext cx="8251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Рефлексия содержания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43000" y="1857240"/>
            <a:ext cx="7539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Сегодня на уроке я научился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Своей работой на уроке 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Урок заставил меня задуматься о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А особенно мне удалось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Я понял, что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Мне было интересно, потому что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Для меня стало открытием, что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Мне показалось важным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0200" y="928440"/>
            <a:ext cx="82519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флексия деятельности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285880" y="5571720"/>
            <a:ext cx="3643560" cy="7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32523"/>
                </a:solidFill>
                <a:latin typeface="Calibri"/>
              </a:rPr>
              <a:t>Лесенка успех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0" y="4929120"/>
            <a:ext cx="1149480" cy="1287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000160" y="2928960"/>
            <a:ext cx="928800" cy="125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3"/>
          <a:stretch/>
        </p:blipFill>
        <p:spPr>
          <a:xfrm>
            <a:off x="5357880" y="1214280"/>
            <a:ext cx="857160" cy="125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4"/>
          <a:stretch/>
        </p:blipFill>
        <p:spPr>
          <a:xfrm>
            <a:off x="1285920" y="4071960"/>
            <a:ext cx="603360" cy="2357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5"/>
          <a:stretch/>
        </p:blipFill>
        <p:spPr>
          <a:xfrm>
            <a:off x="4786200" y="2428920"/>
            <a:ext cx="603360" cy="2332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6"/>
          <a:stretch/>
        </p:blipFill>
        <p:spPr>
          <a:xfrm>
            <a:off x="5357880" y="2428920"/>
            <a:ext cx="2981160" cy="676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7"/>
          <a:stretch/>
        </p:blipFill>
        <p:spPr>
          <a:xfrm>
            <a:off x="1857240" y="4071960"/>
            <a:ext cx="2981520" cy="676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8"/>
          <a:stretch/>
        </p:blipFill>
        <p:spPr>
          <a:xfrm>
            <a:off x="0" y="6181560"/>
            <a:ext cx="18572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0200" y="714240"/>
            <a:ext cx="8251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Дерево успех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Users\Елена\Downloads\дере.png"/>
          <p:cNvPicPr/>
          <p:nvPr/>
        </p:nvPicPr>
        <p:blipFill>
          <a:blip r:embed="rId1"/>
          <a:stretch/>
        </p:blipFill>
        <p:spPr>
          <a:xfrm>
            <a:off x="285840" y="1214280"/>
            <a:ext cx="4205160" cy="564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4643280" y="1714680"/>
            <a:ext cx="803520" cy="1571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3"/>
          <a:stretch/>
        </p:blipFill>
        <p:spPr>
          <a:xfrm>
            <a:off x="4714920" y="3357720"/>
            <a:ext cx="785880" cy="1536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4"/>
          <a:stretch/>
        </p:blipFill>
        <p:spPr>
          <a:xfrm>
            <a:off x="4714920" y="4984920"/>
            <a:ext cx="869760" cy="187308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9"/>
          <p:cNvSpPr/>
          <p:nvPr/>
        </p:nvSpPr>
        <p:spPr>
          <a:xfrm>
            <a:off x="6143760" y="1714680"/>
            <a:ext cx="2571480" cy="1214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-4 оши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215040" y="3429000"/>
            <a:ext cx="2643120" cy="13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 ошиб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кругленный прямоугольник 11"/>
          <p:cNvSpPr/>
          <p:nvPr/>
        </p:nvSpPr>
        <p:spPr>
          <a:xfrm>
            <a:off x="6429240" y="5357880"/>
            <a:ext cx="2500560" cy="1285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т ошиб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0200" y="857160"/>
            <a:ext cx="8251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Анке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71760" y="1714680"/>
          <a:ext cx="6572160" cy="4286160"/>
        </p:xfrm>
        <a:graphic>
          <a:graphicData uri="http://schemas.openxmlformats.org/drawingml/2006/table">
            <a:tbl>
              <a:tblPr/>
              <a:tblGrid>
                <a:gridCol w="2976480"/>
                <a:gridCol w="3595680"/>
              </a:tblGrid>
              <a:tr h="325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ке я рабо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/ пассив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ей работой на уроке 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/ не дово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для меня показал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им/ длинн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урок 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стал/ не ус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е настро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лучше / стало ху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 урока мне бы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ен/ не понят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зен/ бесполез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ен/ скуч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ее задание мне каж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м/ трудн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ts val="15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ным/ неинтересн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rcRect l="0" t="0" r="2399" b="10001"/>
          <a:stretch/>
        </p:blipFill>
        <p:spPr>
          <a:xfrm>
            <a:off x="0" y="857160"/>
            <a:ext cx="90788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285560" y="1000080"/>
            <a:ext cx="73962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ть выйди ты не в белый с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в поле за околицей,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 идешь за кем-то всле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рога не запомни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то, куда б ты не поп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по какой распутиц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рога та, что выбрал с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век не позабуд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.Рылен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БлокТекста2"/>
          <p:cNvSpPr/>
          <p:nvPr/>
        </p:nvSpPr>
        <p:spPr>
          <a:xfrm>
            <a:off x="860400" y="1865160"/>
            <a:ext cx="74628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" descr="C:\Documents and Settings\Admin\Рабочий стол\бабочки\e3b316d7a4.gif"/>
          <p:cNvPicPr/>
          <p:nvPr/>
        </p:nvPicPr>
        <p:blipFill>
          <a:blip r:embed="rId1"/>
          <a:stretch/>
        </p:blipFill>
        <p:spPr>
          <a:xfrm>
            <a:off x="1571760" y="785880"/>
            <a:ext cx="6178320" cy="36925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5880" y="4500720"/>
            <a:ext cx="825192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6600"/>
                </a:solidFill>
                <a:latin typeface="Ariston"/>
              </a:rPr>
              <a:t>за внимани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42920" y="0"/>
          <a:ext cx="8858160" cy="6894360"/>
        </p:xfrm>
        <a:graphic>
          <a:graphicData uri="http://schemas.openxmlformats.org/drawingml/2006/table">
            <a:tbl>
              <a:tblPr/>
              <a:tblGrid>
                <a:gridCol w="2044800"/>
                <a:gridCol w="4363920"/>
                <a:gridCol w="244944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йствия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йств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Мотивацио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Положительный эмоциональный настрой на учебу, формирование благоприятной рабочей атмосф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Мотивация к плодотворной работе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Актуализация зн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Взаимная и самопроверка, выполнение заданий на тему пройденного материала, получение задания, решение которого выходит за границы зн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Консульт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Целеполаг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Во взаимодействии с учителем определяется проблема и причины возникшего затруднения, формулируется тема и цель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Помогает школьникам осознать границы знания и незн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Поиск вариантов решения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Планирование путей выхода из затруднения, действия по плану урока по ФГОС или образцу, групповая и индивидуальная практическ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Консульт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Решение затруд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Пробуют выполнить ранее казавшееся невыполнимым практическое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463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только при наличии гиперссыл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Консульт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Корр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Озвучивают затруднения, проверяют правильность выполнения практического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Советует, помогает, консультиру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Самостоятельная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Выполнения заданий на основании полученных знаний, самостоятельная проверка по образц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Консульт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Систематизация зна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Установление межпредметных связей, взаимосвязи между новым материалов и уже изученны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Направляет групповую работу, консультиру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Пояснение домашнего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Учащиеся должны иметь возможность выполнять задания различного уровня сложности,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Предлагает задание на выбор по уровням сложности, поясняет суть домашнего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Оцени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Ученики выполняют взаимное и самооценивание, на основании которого учитель ставит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Консультирует, выставляет и поясняет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Рефлек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Ученики определяют предметное содержание занятия, повторяют тему и цели урока, анализируя то, насколько они были достигну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b2b2b"/>
                          </a:solidFill>
                          <a:latin typeface="Times New Roman"/>
                          <a:ea typeface="Times New Roman"/>
                        </a:rPr>
                        <a:t>Отвечает на вопросы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БлокТекста1"/>
          <p:cNvSpPr/>
          <p:nvPr/>
        </p:nvSpPr>
        <p:spPr>
          <a:xfrm>
            <a:off x="646200" y="860400"/>
            <a:ext cx="81072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ff"/>
                </a:solidFill>
                <a:uFillTx/>
                <a:latin typeface="Century Gothic"/>
              </a:rPr>
              <a:t>Этапы современного уро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БлокТекста3"/>
          <p:cNvSpPr/>
          <p:nvPr/>
        </p:nvSpPr>
        <p:spPr>
          <a:xfrm>
            <a:off x="717480" y="1577880"/>
            <a:ext cx="77058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Картинка1" descr=""/>
          <p:cNvPicPr/>
          <p:nvPr/>
        </p:nvPicPr>
        <p:blipFill>
          <a:blip r:embed="rId1"/>
          <a:stretch/>
        </p:blipFill>
        <p:spPr>
          <a:xfrm>
            <a:off x="7866000" y="5238720"/>
            <a:ext cx="1182600" cy="15778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2550960" y="1698480"/>
            <a:ext cx="4807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тивац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еполага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ниров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ализация пла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тро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це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флекс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БлокТекста1"/>
          <p:cNvSpPr/>
          <p:nvPr/>
        </p:nvSpPr>
        <p:spPr>
          <a:xfrm>
            <a:off x="501480" y="1076400"/>
            <a:ext cx="8101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БлокТекста2"/>
          <p:cNvSpPr/>
          <p:nvPr/>
        </p:nvSpPr>
        <p:spPr>
          <a:xfrm>
            <a:off x="501480" y="2009880"/>
            <a:ext cx="810108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7480" y="1071720"/>
            <a:ext cx="7750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тив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71680" y="1999800"/>
            <a:ext cx="82152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ительный эмоциональный настрой на учебу, формирование благоприятной рабочей атмосферы, настрой к плодотворной работе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2214720"/>
            <a:ext cx="5786280" cy="46432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960" y="999720"/>
            <a:ext cx="7750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яц-барабанщи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214960" y="1928520"/>
            <a:ext cx="39290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уши зай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ут к бараба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яц ворчи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абанить не стан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 настро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 обстанов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 подготов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вижу морковк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999720"/>
            <a:ext cx="7750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ие приемы для организации мотив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63680" y="2285640"/>
            <a:ext cx="63864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использование игровой формы;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дидактические игры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иллюстрации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задачи –шутки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занимательные упражнения;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сказочные сюжеты;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ситуации яркого пятна;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редъявление имитационных ситу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БлокТекста1"/>
          <p:cNvSpPr/>
          <p:nvPr/>
        </p:nvSpPr>
        <p:spPr>
          <a:xfrm>
            <a:off x="430200" y="1004760"/>
            <a:ext cx="82519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БлокТекста2"/>
          <p:cNvSpPr/>
          <p:nvPr/>
        </p:nvSpPr>
        <p:spPr>
          <a:xfrm>
            <a:off x="714240" y="2081160"/>
            <a:ext cx="811224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3880" y="785520"/>
            <a:ext cx="77504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Целеполаг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928440" y="1571400"/>
            <a:ext cx="800100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-«Блиц-опрос». Вытаскивают вопросы, на какой-то вопрос ответить не могу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-На доске записана тема. В теме новое слово, например, СКЛОНЕНИЕ . Узнать, что это так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-Игра «ДА» «НЕТ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На какие вопросы не смогли ответить?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Среди множества однотипных предметов, слов, цифр, фигур одно выделено другим цветом, либо другого размера: 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241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6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БлокТекста1"/>
          <p:cNvSpPr/>
          <p:nvPr/>
        </p:nvSpPr>
        <p:spPr>
          <a:xfrm>
            <a:off x="216000" y="933480"/>
            <a:ext cx="882468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5880" y="714240"/>
            <a:ext cx="77500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85520" y="1857240"/>
            <a:ext cx="80010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лагается несколько пунктов готового плана, расположить их по поряд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плане не достает 1-2 пунктов, или есть лишние пункты. Предлагается исправить ошиб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ложить разрезанные полоски бумаги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положить их по поряд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7:22:44Z</dcterms:created>
  <dc:creator>oxana</dc:creator>
  <dc:description/>
  <dc:language>en-US</dc:language>
  <cp:lastModifiedBy>User</cp:lastModifiedBy>
  <dcterms:modified xsi:type="dcterms:W3CDTF">2024-05-23T18:24:06Z</dcterms:modified>
  <cp:revision>45</cp:revision>
  <dc:subject/>
  <dc:title>Слайд 1</dc:title>
</cp:coreProperties>
</file>