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2.png" ContentType="image/png"/>
  <Override PartName="/ppt/media/image9.gif" ContentType="image/gif"/>
  <Override PartName="/ppt/media/image1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4FD1-EFAE-469A-95B0-6A9D5A4899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0D3D-7B37-4DFA-B64D-45EEA72B5D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9FB-BC9A-4EA0-A881-7F89CDF0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B05-946C-4D4A-8911-D25C7F65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8147-F419-48F1-89F5-A6A72C36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710-1698-41B8-81C0-BB4E8E17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C3D5-3651-4314-A54D-3B1806DB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8B76-A142-40D0-8C28-45526F1E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F7B7-E27B-42C0-92B2-43C02C8A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9E8A-22B2-45E5-A94A-3B1A0279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2C9E-DDA4-42AF-9E8A-113A8925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AFD5-2DA1-430D-AF52-D8498D81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73BA-9280-47A6-B887-9AEFDDFC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52E7-DE80-4182-B316-BFFF6C62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E62C-84C1-4E95-9819-BBD05A67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11FC-F59E-4526-BC9C-ED988A83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1524-2BDE-42F2-87FD-CCB670FB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3770-13EE-4139-B934-6FE66B1F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75C9-6970-405B-8D64-D0E2616E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5BD29-4CA5-42D9-B900-4C3AF123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8E1C5-878C-4330-9B14-F082895E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F8668-CA44-47EC-BE50-D8702D1F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BB6B0-64AF-4534-9627-56A19FC8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5CE26-76F6-4221-987D-3A19B15F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CFB-3975-408D-B320-E6CFD20D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78EAA-FEEE-4955-8C6E-F7F26B8B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39F52-FF89-46B6-ABFB-6CBC3F70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4D172-CC68-403C-A467-E86F47CA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99A5D-6BEC-4CAE-91EF-CD435667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3BE50-0B2D-4ACB-8455-A9FE4030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AB937-0F53-494D-A9BB-605936E3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02960-6587-42ED-AAC1-6BAF2E91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2A80E-179E-4FE4-9D60-A23E64E7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4F711-0605-44AB-A5EF-519F965F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D08EF-10D6-4E34-9E3C-E75DB6A9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FF17-EBB6-4741-AF7B-2724FD3C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297AA-BD9B-4873-B244-91D6CC68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66BD9-43F1-4AD7-B96B-C7E8DB1F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676A3-78E9-44CA-89A0-F306DFC3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CBB1E-0669-4206-AA2D-BB00321B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618F2-3DA3-4BD1-B9A7-F01E901F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A6CA9-CE43-40DD-89D6-58E62825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CCA36-E783-4931-9F80-07E3E3D2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39708-5111-4C0A-91C0-EB9B33C8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72AF1-F20F-4F2F-89B6-5A780C62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CC7A8-E560-4D3A-8E4C-61C2EBB0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A22-9C87-441E-AC78-83183E89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50096-240E-4D0F-B34E-0797642C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C9F06-96FF-48F4-A163-34783E9E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187EEC-E6B5-4C05-888A-E7AFE6EA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AE80D-E082-449A-8578-F8AC1147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D3CF09-533B-4420-8708-D8F41A43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D25746-C918-42FA-B215-39041C90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A3AE4-F8AC-4C1D-847F-97E183DF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7815B-9A4B-4D9A-A71F-2B266AC3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78D68-70CF-41DD-BEC4-F0FD1C6A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2157E-F3B8-49BF-A7A9-B2BBADD0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80F-5C65-4EE9-A258-23BE24FA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D67C7-D723-4254-938D-868309B0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D02658-29EA-48C5-A2B3-3DAEEF71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E85ABC-A0C1-4F98-B1AE-1F5A429E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371B5-820B-4B66-9629-3F52CD09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09A5EC-616C-469E-884A-006091D7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726FE7-83CB-4322-827F-6843FCC4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9E610-0F8A-4219-BCB6-2CE66CC6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E8361-2D39-430D-BDA3-DDE1003C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6950A-1A7D-4A46-B2F6-B775D2C9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B729C8-63DA-4DDF-BA72-64A6334E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A9F-1BCC-4647-8FA1-90514857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519EE-551A-451F-92DB-76A0170D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8BC18E-B073-4171-8656-1C460841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226F6-21EE-4219-9935-8E095420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BEE02-3C3E-4282-8EF1-ECCB0CD9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626AD7-DBBF-4864-BE0D-5002FDB9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F8DD47-02BC-4A42-BAD2-E378BC6F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2980AB-AAF4-4DBF-8A9E-0C3C8858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6C2265-1437-4064-9B32-A087FAB1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E4620E-FB64-4D97-8762-C01F5BF0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4EC85C-0A25-43AD-852B-C9F22C45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FC6-ACA4-420D-AD7B-E82EBDEA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F9B0A2-2A8D-42B8-A78E-7D5CCA3E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4235D-8C7F-408E-B3D7-CD2235D7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E71E1C-E6A4-43AA-8673-FA1A49A6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9B6A16-8113-4A56-A6A3-AF221D5D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19DB3-1B06-4202-8F3F-A06DF419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993-C3C8-4DF3-B7BF-D0B63415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1957-2E1C-49E7-A6DD-BC923B37609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4BA9-45B7-4459-9CFE-EF2847B3903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AF21-F924-460F-BC44-B7F48F512A0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FF34-6750-48BB-A06C-F633001F59D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2C59-DA97-416D-BC01-D2DC1AFD53B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9E45-BAA8-4224-85FA-0A4213BD889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2DFA-BB3E-4BE0-8DE8-A66C9FB5750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C:\Users\Марина\Desktop\детские фоны\1474678119.jpg"/>
          <p:cNvPicPr/>
          <p:nvPr/>
        </p:nvPicPr>
        <p:blipFill>
          <a:blip r:embed="rId1"/>
          <a:stretch/>
        </p:blipFill>
        <p:spPr>
          <a:xfrm>
            <a:off x="914400" y="1989000"/>
            <a:ext cx="6985080" cy="4577040"/>
          </a:xfrm>
          <a:prstGeom prst="rect">
            <a:avLst/>
          </a:prstGeom>
          <a:ln w="0">
            <a:noFill/>
          </a:ln>
        </p:spPr>
      </p:pic>
      <p:pic>
        <p:nvPicPr>
          <p:cNvPr id="359" name="Прямоугольник 1" descr=""/>
          <p:cNvPicPr/>
          <p:nvPr/>
        </p:nvPicPr>
        <p:blipFill>
          <a:blip r:embed="rId2"/>
          <a:stretch/>
        </p:blipFill>
        <p:spPr>
          <a:xfrm>
            <a:off x="536400" y="506520"/>
            <a:ext cx="7858440" cy="8776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4"/>
          <p:cNvSpPr/>
          <p:nvPr/>
        </p:nvSpPr>
        <p:spPr>
          <a:xfrm>
            <a:off x="2689200" y="436572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ОФОРМЛЕНИЕ ПИСЬМЕННЫХ РАБОТ ПО МАТЕМАТИКЕ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8000" y="981000"/>
            <a:ext cx="828036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жду классной и домашней работами следует отступать 4 клетки 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вниз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на пятой клетке начинается следующая работ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ледует отметить, что для заглавных букв клетка не отводится, т. е. для них считается одна из двух (четырех) клеток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ежду столбиками выражений, уравнений, равенств и прочими отступаются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четыре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клетки вправо (пишем на пятой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ату  записывать традиционно посередин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лассная и домашняя работа пишется  в  4-5 клетке  слева от начала  строк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Рисунок 3" descr=""/>
          <p:cNvPicPr/>
          <p:nvPr/>
        </p:nvPicPr>
        <p:blipFill>
          <a:blip r:embed="rId1"/>
          <a:stretch/>
        </p:blipFill>
        <p:spPr>
          <a:xfrm>
            <a:off x="5219640" y="4581360"/>
            <a:ext cx="35211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3"/>
          <p:cNvSpPr/>
          <p:nvPr/>
        </p:nvSpPr>
        <p:spPr>
          <a:xfrm>
            <a:off x="468360" y="333360"/>
            <a:ext cx="828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юбой работе отступается одна клетка слева от края тетради (5 м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о в тетрадях отмечаются виды заданий. Слово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адача» не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шет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редине строки, отмечается только но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име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№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дач также требует соблюдения принятых н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ая запись -условия задач оформляется в соответствии с их вид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лавные» слова пишутся с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глав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квы. Следует отметить, что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заглавных букв клетка не отводится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От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пиш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 заглавной буквы под решен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1" descr=""/>
          <p:cNvPicPr/>
          <p:nvPr/>
        </p:nvPicPr>
        <p:blipFill>
          <a:blip r:embed="rId1"/>
          <a:stretch/>
        </p:blipFill>
        <p:spPr>
          <a:xfrm>
            <a:off x="4211640" y="4095720"/>
            <a:ext cx="38322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000" spc="-1" strike="noStrike">
                <a:solidFill>
                  <a:srgbClr val="575f6d"/>
                </a:solidFill>
                <a:latin typeface="Times New Roman"/>
                <a:ea typeface="DejaVu Serif"/>
              </a:rPr>
              <a:t>НА ОПУШКЕ ЛЕСА РОСЛО 5 КЛЁНОВ И 4 ТОПОЛЯ, А СОСЕН РОСЛО СТОЛЬКО, СКОЛЬКО КЛЁНОВ И ТОПОЛЕЙ ВМЕСТЕ. СКОЛЬКО СОСЕН РОСЛО НА ОПУШКЕ ЛЕСА? </a:t>
            </a:r>
            <a:br>
              <a:rPr sz="29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50920" y="1989000"/>
            <a:ext cx="767376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лёнов – 5 д.            Сосен – ?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ополей – 4 д.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5 + 4 = 9 (д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твет: 9 сосен росло на опушке леса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Правая фигурная скобка 4"/>
          <p:cNvSpPr/>
          <p:nvPr/>
        </p:nvSpPr>
        <p:spPr>
          <a:xfrm>
            <a:off x="2443320" y="2060640"/>
            <a:ext cx="360360" cy="122400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224000"/>
              <a:gd name="textAreaBottom" fmla="*/ 121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5"/>
                  <a:pt x="10800" y="530"/>
                </a:cubicBezTo>
                <a:lnTo>
                  <a:pt x="10800" y="10270"/>
                </a:lnTo>
                <a:cubicBezTo>
                  <a:pt x="10800" y="10535"/>
                  <a:pt x="16200" y="10800"/>
                  <a:pt x="21600" y="10800"/>
                </a:cubicBezTo>
                <a:cubicBezTo>
                  <a:pt x="16200" y="10800"/>
                  <a:pt x="10800" y="11065"/>
                  <a:pt x="10800" y="11330"/>
                </a:cubicBezTo>
                <a:lnTo>
                  <a:pt x="10800" y="21070"/>
                </a:lnTo>
                <a:cubicBezTo>
                  <a:pt x="10800" y="2133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Рисунок 7" descr=""/>
          <p:cNvPicPr/>
          <p:nvPr/>
        </p:nvPicPr>
        <p:blipFill>
          <a:blip r:embed="rId1"/>
          <a:stretch/>
        </p:blipFill>
        <p:spPr>
          <a:xfrm>
            <a:off x="7093080" y="3446640"/>
            <a:ext cx="181908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408600"/>
            <a:ext cx="746748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DejaVu Serif"/>
                <a:ea typeface="DejaVu Serif"/>
              </a:rPr>
              <a:t>НА ПРИШКОЛЬНОМ УЧАСТКЕ 6 БЕРЁЗ, А ЛИП НА 4 МЕНЬШЕ. СКОЛЬКО ВСЕГО ДЕРЕВЬЕВ НА ПРИШКОЛЬНОМ УЧАСТКЕ?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369720" y="1773360"/>
            <a:ext cx="434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ерёз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– 6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? д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ип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– ?д., на 4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Группа 3"/>
          <p:cNvGrpSpPr/>
          <p:nvPr/>
        </p:nvGrpSpPr>
        <p:grpSpPr>
          <a:xfrm>
            <a:off x="2123280" y="2003040"/>
            <a:ext cx="793080" cy="800280"/>
            <a:chOff x="2123280" y="2003040"/>
            <a:chExt cx="793080" cy="800280"/>
          </a:xfrm>
        </p:grpSpPr>
        <p:sp>
          <p:nvSpPr>
            <p:cNvPr id="396" name="Прямая соединительная линия 6"/>
            <p:cNvSpPr/>
            <p:nvPr/>
          </p:nvSpPr>
          <p:spPr>
            <a:xfrm flipV="1">
              <a:off x="2916360" y="2003040"/>
              <a:ext cx="0" cy="80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Прямая со стрелкой 7"/>
            <p:cNvCxnSpPr/>
            <p:nvPr/>
          </p:nvCxnSpPr>
          <p:spPr>
            <a:xfrm flipH="1">
              <a:off x="2123280" y="2003040"/>
              <a:ext cx="793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398" name=""/>
          <p:cNvSpPr txBox="1"/>
          <p:nvPr/>
        </p:nvSpPr>
        <p:spPr>
          <a:xfrm>
            <a:off x="369720" y="3220560"/>
            <a:ext cx="7554960" cy="19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)6 – 4 = 2 (д.) – лип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2) 6 + 2 = 8 (д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твет: 8 деревьев всег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Рисунок 16" descr=""/>
          <p:cNvPicPr/>
          <p:nvPr/>
        </p:nvPicPr>
        <p:blipFill>
          <a:blip r:embed="rId1"/>
          <a:stretch/>
        </p:blipFill>
        <p:spPr>
          <a:xfrm>
            <a:off x="6588000" y="3220920"/>
            <a:ext cx="18352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8360" y="404280"/>
            <a:ext cx="7786800" cy="57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и оформлении решения выражений  следует требовать от учащихся соблюдения следующих нор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писать выражение полностью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казать цифрами над математическими знаками промежуточный результат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писать окончательное значение выраже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94920" y="3284640"/>
            <a:ext cx="65530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Например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3    5    7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4 -1 + 2 + 2 = 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1"/>
          <a:stretch/>
        </p:blipFill>
        <p:spPr>
          <a:xfrm>
            <a:off x="7161120" y="4149720"/>
            <a:ext cx="1563840" cy="1943280"/>
          </a:xfrm>
          <a:prstGeom prst="rect">
            <a:avLst/>
          </a:prstGeom>
          <a:ln w="38160">
            <a:solidFill>
              <a:srgbClr val="e75c0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ЕДЕНИЕ ДНЕВНИ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усск. яз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ен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ат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гл.яз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из- 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но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узык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75f6d"/>
                </a:solidFill>
                <a:uFillTx/>
                <a:latin typeface="Century Schoolbook"/>
              </a:rPr>
              <a:t>ПОРЯДОК ВЕДЕНИЯ И ОФОРМЛЕНИЯ ТЕТРАДЕЙ</a:t>
            </a:r>
            <a:r>
              <a:rPr b="0" i="1" lang="ru-RU" sz="2000" spc="-1" strike="noStrike" u="sng">
                <a:solidFill>
                  <a:srgbClr val="575f6d"/>
                </a:solidFill>
                <a:uFillTx/>
                <a:latin typeface="Century Schoolbook"/>
              </a:rPr>
              <a:t>.</a:t>
            </a:r>
            <a:br>
              <a:rPr sz="36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196640"/>
            <a:ext cx="7427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начальной школе ученики имеют тетради для выполнения всех видов обучающих и контрольных  работ по базовым предмета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атематика и русский язык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Тетради (2) ( для текущих работ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Тетрадь №3 ( для контрольных рабо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285840" y="214200"/>
            <a:ext cx="745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Порядок ведения и оформления тетрадей</a:t>
            </a: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Century Schoolbook"/>
              </a:rPr>
              <a:t>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6948360" y="4797360"/>
            <a:ext cx="121284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0000"/>
                </a:solidFill>
                <a:uFillTx/>
                <a:latin typeface="Century Schoolbook"/>
              </a:rPr>
              <a:t>ОФОРМЛЕНИЕ НАДПИСЕЙ НА ОБЛОЖКЕ ТЕТРАДЕЙ.</a:t>
            </a: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 </a:t>
            </a:r>
            <a:br>
              <a:rPr sz="36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749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тради учащихся 1-го и 2-го классов подписывает  учитель. Тетради учащихся 3-4 классов подписывают сами учащиеся под руководством учителя или родителя 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чтобы тетради были подписаны одним почерком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дписи на обложках  необходимо оформлять по единой форме, с соблюдением норм каллиграфии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Рисунок 4" descr=""/>
          <p:cNvPicPr/>
          <p:nvPr/>
        </p:nvPicPr>
        <p:blipFill>
          <a:blip r:embed="rId1"/>
          <a:stretch/>
        </p:blipFill>
        <p:spPr>
          <a:xfrm>
            <a:off x="5292720" y="4005360"/>
            <a:ext cx="287496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928440" y="356760"/>
            <a:ext cx="5357880" cy="597708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Образец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Тетрадь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для (контрольных) рабо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entury Schoolbook"/>
              </a:rPr>
              <a:t>по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математике (русскому языку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ученика 1«а» класса Баевской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средней школы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Иванова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Иван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едлог 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«по»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ишется  на одной строке с названием предмет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умерация класса пише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арабскими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цифрам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Фамилию и имя следует писать в форме родительного падежа. Сначала пишут фамилию, а затем полное им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Рисунок 4" descr=""/>
          <p:cNvPicPr/>
          <p:nvPr/>
        </p:nvPicPr>
        <p:blipFill>
          <a:blip r:embed="rId1"/>
          <a:stretch/>
        </p:blipFill>
        <p:spPr>
          <a:xfrm>
            <a:off x="6227640" y="3983040"/>
            <a:ext cx="1854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356760"/>
            <a:ext cx="3657600" cy="58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се записи в тетрадях следует оформлять каллиграфическим аккуратным почерком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ользоваться шариковой ручкой с чернилами фиолетового (синего) цвета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Допускается выделение зелёным цветом изученных орфограмм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се подчеркивания, начертания геометрических фигур выполняются простым карандашом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Учащиеся 1-2 классов пишут в тетрадях в узкую линию.  Переход на широкую линейку учителем определяется с 3 класса с учетом наличия у учащихся успешно сформированного навыка письма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270320" y="357120"/>
            <a:ext cx="3657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Работы учащихся проверяются учителем чернилами красного цвета. Оценивание письменных текущих и контрольных работ осуществляется согласно принятым нормам оценок.</a:t>
            </a: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Century Schoolbook"/>
              </a:rPr>
              <a:t>Работу над ошибками 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ыполнять в рабочих тетрадях (допускается выполнение в контрольных тетрадях после соответствующей работы). </a:t>
            </a:r>
            <a:r>
              <a:rPr b="0" lang="ru-RU" sz="1700" spc="-1" strike="noStrike">
                <a:solidFill>
                  <a:srgbClr val="ff0000"/>
                </a:solidFill>
                <a:latin typeface="Century Schoolbook"/>
              </a:rPr>
              <a:t>Ежедневная работа над ошибками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должна представлять собой целостную систему, результативность которой прослеживается в повышении качества обучения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4" descr=""/>
          <p:cNvPicPr/>
          <p:nvPr/>
        </p:nvPicPr>
        <p:blipFill>
          <a:blip r:embed="rId1"/>
          <a:stretch/>
        </p:blipFill>
        <p:spPr>
          <a:xfrm>
            <a:off x="5838840" y="4797360"/>
            <a:ext cx="29448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ОФОРМЛЕНИЕ   ПИСЬМЕННЫХ РАБОТ  ПО РУССКОМУ ЯЗЫКУ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4920" y="620280"/>
            <a:ext cx="820908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классной и домашней работы следует отступать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строки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ишем на третьей)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формлении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й строк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лается отступ вправо не менее 2 см </a:t>
            </a: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ва пальца)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людения красной строки требуется с первого класса при оформлении текстов, начала нового вида работы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работы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чки не пропускаются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страница начинается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амой верхней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, дописывается до конца страницы, включая последнюю строку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ва при оформлении каждой строки отступается от края не более 0,5 см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а строка дописывается до конца. Использование правил переноса обязательно. Не допускается необоснованное наличие пустых мест на строке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ь даты написания работы по русскому языку ведется по центру рабочей строки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м классе в период обучения грамоте запись даты ведется учителем или учащимися в виде числа: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-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окончании этого периода дата записывается полностью: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екабря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Рисунок 4" descr=""/>
          <p:cNvPicPr/>
          <p:nvPr/>
        </p:nvPicPr>
        <p:blipFill>
          <a:blip r:embed="rId1"/>
          <a:stretch/>
        </p:blipFill>
        <p:spPr>
          <a:xfrm>
            <a:off x="6597720" y="5046840"/>
            <a:ext cx="150660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6840" y="189000"/>
            <a:ext cx="797868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3 классе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опускается в записи даты писать числительные прописью: 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Первое декабр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Запись названия работы проводится на следующей рабочей строке (без пропуска) по центру (точка не ставится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Например: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лассная работ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Домашняя работ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Работа над ошибками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омера упражнений записываются на следующей строке по центру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Образец: 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№ 25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работе, требующей записи в столбик,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ервое слово пишется с  маленькой буквы. Знаки  препинания (запятые) </a:t>
            </a: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не ставятс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Например:  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ветер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восто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песок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48" descr="C:\Users\Марина\Desktop\выступление\115149715_4709286_93146176.png"/>
          <p:cNvPicPr/>
          <p:nvPr/>
        </p:nvPicPr>
        <p:blipFill>
          <a:blip r:embed="rId1"/>
          <a:stretch/>
        </p:blipFill>
        <p:spPr>
          <a:xfrm>
            <a:off x="6372360" y="4365720"/>
            <a:ext cx="237636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785880"/>
            <a:ext cx="7467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ри выполнении подробного вида работы в строчку первое слово пишется с красной строки, с большой буквы, через запятую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1700" spc="-1" strike="noStrike">
                <a:solidFill>
                  <a:srgbClr val="ff0000"/>
                </a:solidFill>
                <a:latin typeface="Century Schoolbook"/>
              </a:rPr>
              <a:t>Например: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Ветер, восток, песок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При выполнении различных видов разбора требуется соблюдение принятых норм сокращений слов  обозначений терминов (согласно программы по которой занимается класс). Сокращается слово только на согласные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</a:rPr>
              <a:t>глухой-гл.,звонкий-зв.,согласный-согл.,твердый-тв.,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</a:rPr>
              <a:t>существительное-сущ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</a:rPr>
              <a:t>прилагательное-прил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</a:rPr>
              <a:t>глагол-гл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</a:rPr>
              <a:t>предлог-пр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</a:rPr>
              <a:t>мужской род-м.р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</a:rPr>
              <a:t>женский род-ж.р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</a:rPr>
              <a:t>средний род-ср.р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</a:rPr>
              <a:t>Прошедшее время-прош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</a:rPr>
              <a:t>Настоящее время-наст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</a:rPr>
              <a:t>Будущее время- буд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</a:rPr>
              <a:t>Единственное число-ед.ч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</a:rPr>
              <a:t>Множественное число-мн.ч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Century Schoolbook"/>
              </a:rPr>
              <a:t>Название падежей указывается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заглавной буквой </a:t>
            </a:r>
            <a:r>
              <a:rPr b="0" lang="ru-RU" sz="1300" spc="-1" strike="noStrike" u="sng">
                <a:solidFill>
                  <a:srgbClr val="000000"/>
                </a:solidFill>
                <a:uFillTx/>
                <a:latin typeface="Century Schoolbook"/>
              </a:rPr>
              <a:t>( Им.п.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Р.п. Д.п. В.п. Т.п. П.п.)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1" descr=""/>
          <p:cNvPicPr/>
          <p:nvPr/>
        </p:nvPicPr>
        <p:blipFill>
          <a:blip r:embed="rId1"/>
          <a:stretch/>
        </p:blipFill>
        <p:spPr>
          <a:xfrm>
            <a:off x="7715160" y="-1429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8" descr=""/>
          <p:cNvPicPr/>
          <p:nvPr/>
        </p:nvPicPr>
        <p:blipFill>
          <a:blip r:embed="rId2"/>
          <a:stretch/>
        </p:blipFill>
        <p:spPr>
          <a:xfrm>
            <a:off x="5153040" y="2852640"/>
            <a:ext cx="32320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620640"/>
            <a:ext cx="8258400" cy="590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ледует сказать , что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обозначения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д словами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пишется ручкой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i="1" lang="ru-RU" sz="2000" spc="-1" strike="noStrike">
                <a:solidFill>
                  <a:srgbClr val="00b05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се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подчеркивания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делаются по линейке только простым </a:t>
            </a:r>
            <a:r>
              <a:rPr b="0" i="1" lang="ru-RU" sz="2000" spc="-1" strike="noStrike">
                <a:solidFill>
                  <a:srgbClr val="ff0000"/>
                </a:solidFill>
                <a:latin typeface="Century Schoolbook"/>
              </a:rPr>
              <a:t>карандашо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Рисунок 1" descr=""/>
          <p:cNvPicPr/>
          <p:nvPr/>
        </p:nvPicPr>
        <p:blipFill>
          <a:blip r:embed="rId1"/>
          <a:stretch/>
        </p:blipFill>
        <p:spPr>
          <a:xfrm rot="20521200">
            <a:off x="749160" y="2701800"/>
            <a:ext cx="2170080" cy="2170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Марина\Desktop\выступление\шьь.jpg"/>
          <p:cNvPicPr/>
          <p:nvPr/>
        </p:nvPicPr>
        <p:blipFill>
          <a:blip r:embed="rId2"/>
          <a:stretch/>
        </p:blipFill>
        <p:spPr>
          <a:xfrm>
            <a:off x="5148360" y="1628640"/>
            <a:ext cx="361944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08:40:37Z</dcterms:created>
  <dc:creator>Андрей</dc:creator>
  <dc:description/>
  <dc:language>en-US</dc:language>
  <cp:lastModifiedBy>User</cp:lastModifiedBy>
  <dcterms:modified xsi:type="dcterms:W3CDTF">2024-08-22T16:20:17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120000000000010243100207f6000400038000</vt:lpwstr>
  </property>
</Properties>
</file>